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WHOOSH.WAV" ContentType="audio/x-wav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B697-A5DA-4339-9A88-8B9EADE6B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A6DE-4C19-499B-AA3D-78E4F675C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9696-1FAB-46BE-B722-24BCC6D92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5A18-A1ED-4ADB-94CB-DAA30706F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2F88-8D73-453D-93E7-3C15AD04E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4F58-A5E3-40AF-8B24-A3DCC44D3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866E-F2D9-41AE-ABDD-77AF7C008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82DD-98F0-4EDE-AA43-8C4768319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F311-0735-4387-9703-A7F7B1C2B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AE98-856E-475B-A045-4E030FB0E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198F-D684-4CAC-B653-A4917F8FA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A236-19FB-4B3E-B3CD-BE0F6C269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22D5-BBC2-42A6-8062-7AB7C3A3B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67A2-F008-4894-832A-E53CD89F6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7A78-3507-4A84-8DC2-162FF253C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37B5-C98D-4206-9728-83DB05360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119E-E04B-46D2-B2F3-BCF13E415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424A-2F39-4766-BC00-573FEF1BC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921F-6D8F-44A5-B78D-60B80B082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1C92-98C1-42D5-AE8A-4EDC1655E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3BB0-1D1A-4BB9-A2A9-C1FF21F1F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8CDF-249F-4F81-85AC-09ADCA1EB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3D0F-525C-47DA-81DB-AB7853840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E5C4-DABF-4A11-B474-833D37CA4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EDF0-8033-490C-862B-F4539DCF0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C94C-6140-4F76-B9D5-ACAB448C0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24B3-AFFE-4377-82A5-E1B489454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D3C3-45BB-4B6E-99E8-D500F60EA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F6BD-1C80-48BE-AF33-6F1120F74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B0CB-5B7D-437E-AD5E-A537048DB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47CE-B00E-484C-AD76-295D6F8BF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6E19-6A5A-4889-BF1B-D21BB0041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4669-497D-414B-B0AA-1139A0EF4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AA14-ECA9-4DBF-80AD-2AE63C5D8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A937-1CF4-4F38-B067-B1F3FB95E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7EBF-B5C3-4DCC-93DA-1CE28BD6A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2C34-7BD6-4B80-A1EC-00B5AE6AE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936A-B649-4409-BB65-4B8F34BD2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A1EE-96B3-4DBA-9625-B60CBD42E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E286-B8FE-4856-93F0-5240B8B87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25A7-A989-4DC5-A1C5-1F54F9D64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F095-2310-4606-9BCF-7718B6ED9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A02E-F011-419C-ADB0-2817C0B18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206C-9162-4AEA-A859-DC2D2DA62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B32D-058A-45FD-83D2-8F5E07A51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E492-0DAB-429B-8882-CCE172805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9676-A5DE-4BAD-ABDB-CAF69C738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625B-9D13-4B40-89FA-488F5E287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15240" y="6486480"/>
            <a:ext cx="3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6708-516F-484F-BF15-53D964E4A724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87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8"/>
          <p:cNvCxnSpPr>
            <a:stCxn id="287" idx="3"/>
            <a:endCxn id="289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1" name="AutoShape 9"/>
          <p:cNvCxnSpPr>
            <a:stCxn id="284" idx="0"/>
            <a:endCxn id="288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3"/>
          <p:cNvCxnSpPr>
            <a:stCxn id="294" idx="2"/>
            <a:endCxn id="285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6" name="Rectangle 1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53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302" name="Oval 42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306" name="Oval 46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9" name="AutoShape 50"/>
          <p:cNvCxnSpPr>
            <a:stCxn id="298" idx="2"/>
            <a:endCxn id="306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0" name="Rectangle 51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2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AutoShape 54"/>
          <p:cNvCxnSpPr>
            <a:stCxn id="313" idx="2"/>
            <a:endCxn id="302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59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8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16" name="Text Box 62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3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19" name="AutoShape 66"/>
          <p:cNvCxnSpPr>
            <a:stCxn id="314" idx="3"/>
            <a:endCxn id="317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0" name="Rectangle 67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2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AutoShape 9"/>
          <p:cNvCxnSpPr>
            <a:stCxn id="321" idx="0"/>
            <a:endCxn id="32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AutoShape 19"/>
          <p:cNvCxnSpPr>
            <a:stCxn id="331" idx="2"/>
            <a:endCxn id="32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33" name="AutoShape 21"/>
          <p:cNvCxnSpPr>
            <a:stCxn id="334" idx="2"/>
            <a:endCxn id="335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AutoShape 24"/>
          <p:cNvCxnSpPr>
            <a:stCxn id="339" idx="3"/>
            <a:endCxn id="330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AutoShape 27"/>
          <p:cNvCxnSpPr>
            <a:stCxn id="334" idx="2"/>
            <a:endCxn id="343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39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7" name="AutoShape 36"/>
          <p:cNvCxnSpPr>
            <a:stCxn id="334" idx="2"/>
            <a:endCxn id="346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8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AutoShape 42"/>
          <p:cNvCxnSpPr>
            <a:stCxn id="344" idx="2"/>
            <a:endCxn id="350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8"/>
          <p:cNvCxnSpPr>
            <a:stCxn id="357" idx="0"/>
            <a:endCxn id="359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AutoShape 10"/>
          <p:cNvCxnSpPr>
            <a:stCxn id="357" idx="2"/>
            <a:endCxn id="361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Oval 11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AutoShape 13"/>
          <p:cNvCxnSpPr>
            <a:stCxn id="356" idx="3"/>
            <a:endCxn id="363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6" name="Text Box 14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AutoShape 15"/>
          <p:cNvCxnSpPr>
            <a:stCxn id="364" idx="2"/>
            <a:endCxn id="368" idx="0"/>
          </p:cNvCxnSpPr>
          <p:nvPr/>
        </p:nvCxnSpPr>
        <p:spPr>
          <a:xfrm flipH="1">
            <a:off x="5939640" y="1274400"/>
            <a:ext cx="1080" cy="811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Oval 16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70" name="Text Box 18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2" name="AutoShape 20"/>
          <p:cNvCxnSpPr>
            <a:stCxn id="373" idx="2"/>
            <a:endCxn id="371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AutoShape 21"/>
          <p:cNvCxnSpPr>
            <a:stCxn id="370" idx="3"/>
            <a:endCxn id="375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22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AutoShape 29"/>
          <p:cNvCxnSpPr>
            <a:stCxn id="358" idx="2"/>
            <a:endCxn id="379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81" name="Rectangle 30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88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AutoShape 8"/>
          <p:cNvCxnSpPr>
            <a:stCxn id="388" idx="3"/>
            <a:endCxn id="390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92" name="AutoShape 9"/>
          <p:cNvCxnSpPr>
            <a:stCxn id="385" idx="0"/>
            <a:endCxn id="389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3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96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19"/>
          <p:cNvCxnSpPr>
            <a:stCxn id="398" idx="2"/>
            <a:endCxn id="386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0" name="AutoShape 20"/>
          <p:cNvCxnSpPr>
            <a:stCxn id="398" idx="2"/>
            <a:endCxn id="396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1" name="AutoShape 21"/>
          <p:cNvCxnSpPr>
            <a:stCxn id="402" idx="2"/>
            <a:endCxn id="403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4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AutoShape 24"/>
          <p:cNvCxnSpPr>
            <a:stCxn id="407" idx="3"/>
            <a:endCxn id="394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411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403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AutoShape 35"/>
          <p:cNvCxnSpPr>
            <a:stCxn id="402" idx="2"/>
            <a:endCxn id="414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6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9" name="AutoShape 40"/>
          <p:cNvCxnSpPr>
            <a:stCxn id="412" idx="3"/>
            <a:endCxn id="418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23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AutoShape 8"/>
          <p:cNvCxnSpPr>
            <a:stCxn id="423" idx="3"/>
            <a:endCxn id="425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7" name="AutoShape 9"/>
          <p:cNvCxnSpPr>
            <a:stCxn id="420" idx="0"/>
            <a:endCxn id="424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8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31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AutoShape 19"/>
          <p:cNvCxnSpPr>
            <a:stCxn id="433" idx="2"/>
            <a:endCxn id="421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35" name="AutoShape 21"/>
          <p:cNvCxnSpPr>
            <a:stCxn id="433" idx="2"/>
            <a:endCxn id="431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AutoShape 24"/>
          <p:cNvCxnSpPr>
            <a:stCxn id="432" idx="3"/>
            <a:endCxn id="429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9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45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49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38"/>
          <p:cNvCxnSpPr>
            <a:stCxn id="441" idx="0"/>
            <a:endCxn id="449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3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AutoShape 41"/>
          <p:cNvCxnSpPr>
            <a:stCxn id="456" idx="0"/>
            <a:endCxn id="445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6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62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66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70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73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77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482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5" name="Group 2052"/>
          <p:cNvGrpSpPr/>
          <p:nvPr/>
        </p:nvGrpSpPr>
        <p:grpSpPr>
          <a:xfrm>
            <a:off x="2641680" y="5249880"/>
            <a:ext cx="1623240" cy="398880"/>
            <a:chOff x="2641680" y="5249880"/>
            <a:chExt cx="1623240" cy="398880"/>
          </a:xfrm>
        </p:grpSpPr>
        <p:sp>
          <p:nvSpPr>
            <p:cNvPr id="486" name="Text Box 2053"/>
            <p:cNvSpPr/>
            <p:nvPr/>
          </p:nvSpPr>
          <p:spPr>
            <a:xfrm>
              <a:off x="2880360" y="524988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054"/>
            <p:cNvSpPr/>
            <p:nvPr/>
          </p:nvSpPr>
          <p:spPr>
            <a:xfrm>
              <a:off x="2641680" y="5381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 Box 2055"/>
          <p:cNvSpPr/>
          <p:nvPr/>
        </p:nvSpPr>
        <p:spPr>
          <a:xfrm>
            <a:off x="1549800" y="40006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2056"/>
          <p:cNvCxnSpPr>
            <a:stCxn id="488" idx="2"/>
            <a:endCxn id="487" idx="2"/>
          </p:cNvCxnSpPr>
          <p:nvPr/>
        </p:nvCxnSpPr>
        <p:spPr>
          <a:xfrm flipH="1" rot="16200000">
            <a:off x="1719000" y="458100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0" name="AutoShape 2057"/>
          <p:cNvCxnSpPr>
            <a:stCxn id="488" idx="3"/>
            <a:endCxn id="491" idx="2"/>
          </p:cNvCxnSpPr>
          <p:nvPr/>
        </p:nvCxnSpPr>
        <p:spPr>
          <a:xfrm flipV="1">
            <a:off x="2198160" y="4206240"/>
            <a:ext cx="986760" cy="684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2" name="Rectangle 2058"/>
          <p:cNvSpPr/>
          <p:nvPr/>
        </p:nvSpPr>
        <p:spPr>
          <a:xfrm>
            <a:off x="1487160" y="45435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2059"/>
          <p:cNvGrpSpPr/>
          <p:nvPr/>
        </p:nvGrpSpPr>
        <p:grpSpPr>
          <a:xfrm>
            <a:off x="3213000" y="3952800"/>
            <a:ext cx="2282400" cy="413280"/>
            <a:chOff x="3213000" y="3952800"/>
            <a:chExt cx="2282400" cy="413280"/>
          </a:xfrm>
        </p:grpSpPr>
        <p:sp>
          <p:nvSpPr>
            <p:cNvPr id="494" name="Text Box 2060"/>
            <p:cNvSpPr/>
            <p:nvPr/>
          </p:nvSpPr>
          <p:spPr>
            <a:xfrm>
              <a:off x="3450960" y="396720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2061"/>
            <p:cNvSpPr/>
            <p:nvPr/>
          </p:nvSpPr>
          <p:spPr>
            <a:xfrm>
              <a:off x="3213000" y="4113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062"/>
            <p:cNvSpPr/>
            <p:nvPr/>
          </p:nvSpPr>
          <p:spPr>
            <a:xfrm>
              <a:off x="5337000" y="395280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063"/>
          <p:cNvGrpSpPr/>
          <p:nvPr/>
        </p:nvGrpSpPr>
        <p:grpSpPr>
          <a:xfrm>
            <a:off x="2641680" y="5827680"/>
            <a:ext cx="1935000" cy="398880"/>
            <a:chOff x="2641680" y="5827680"/>
            <a:chExt cx="1935000" cy="398880"/>
          </a:xfrm>
        </p:grpSpPr>
        <p:sp>
          <p:nvSpPr>
            <p:cNvPr id="497" name="Text Box 2064"/>
            <p:cNvSpPr/>
            <p:nvPr/>
          </p:nvSpPr>
          <p:spPr>
            <a:xfrm>
              <a:off x="2865960" y="582768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65"/>
            <p:cNvSpPr/>
            <p:nvPr/>
          </p:nvSpPr>
          <p:spPr>
            <a:xfrm>
              <a:off x="2641680" y="5959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9" name="AutoShape 2066"/>
          <p:cNvCxnSpPr>
            <a:stCxn id="488" idx="2"/>
            <a:endCxn id="498" idx="2"/>
          </p:cNvCxnSpPr>
          <p:nvPr/>
        </p:nvCxnSpPr>
        <p:spPr>
          <a:xfrm flipH="1" rot="16200000">
            <a:off x="1430280" y="487008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00" name="Group 2067"/>
          <p:cNvGrpSpPr/>
          <p:nvPr/>
        </p:nvGrpSpPr>
        <p:grpSpPr>
          <a:xfrm>
            <a:off x="2625840" y="4673520"/>
            <a:ext cx="2018880" cy="398880"/>
            <a:chOff x="2625840" y="4673520"/>
            <a:chExt cx="2018880" cy="398880"/>
          </a:xfrm>
        </p:grpSpPr>
        <p:sp>
          <p:nvSpPr>
            <p:cNvPr id="501" name="Text Box 2068"/>
            <p:cNvSpPr/>
            <p:nvPr/>
          </p:nvSpPr>
          <p:spPr>
            <a:xfrm>
              <a:off x="2863800" y="467352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9"/>
            <p:cNvSpPr/>
            <p:nvPr/>
          </p:nvSpPr>
          <p:spPr>
            <a:xfrm>
              <a:off x="2625840" y="4805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3" name="AutoShape 2070"/>
          <p:cNvCxnSpPr>
            <a:stCxn id="488" idx="2"/>
            <a:endCxn id="502" idx="2"/>
          </p:cNvCxnSpPr>
          <p:nvPr/>
        </p:nvCxnSpPr>
        <p:spPr>
          <a:xfrm flipH="1" rot="16200000">
            <a:off x="1999440" y="430092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4" name="Oval 2076"/>
          <p:cNvSpPr/>
          <p:nvPr/>
        </p:nvSpPr>
        <p:spPr>
          <a:xfrm>
            <a:off x="7226280" y="1401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077"/>
          <p:cNvSpPr/>
          <p:nvPr/>
        </p:nvSpPr>
        <p:spPr>
          <a:xfrm>
            <a:off x="6333480" y="20289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2078"/>
          <p:cNvGrpSpPr/>
          <p:nvPr/>
        </p:nvGrpSpPr>
        <p:grpSpPr>
          <a:xfrm>
            <a:off x="5595840" y="2870280"/>
            <a:ext cx="3232440" cy="703800"/>
            <a:chOff x="5595840" y="2870280"/>
            <a:chExt cx="3232440" cy="703800"/>
          </a:xfrm>
        </p:grpSpPr>
        <p:sp>
          <p:nvSpPr>
            <p:cNvPr id="507" name="Text Box 2079"/>
            <p:cNvSpPr/>
            <p:nvPr/>
          </p:nvSpPr>
          <p:spPr>
            <a:xfrm>
              <a:off x="5814360" y="2870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080"/>
            <p:cNvSpPr/>
            <p:nvPr/>
          </p:nvSpPr>
          <p:spPr>
            <a:xfrm>
              <a:off x="5595840" y="3146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9" name="AutoShape 2081"/>
          <p:cNvCxnSpPr>
            <a:stCxn id="510" idx="3"/>
            <a:endCxn id="508" idx="2"/>
          </p:cNvCxnSpPr>
          <p:nvPr/>
        </p:nvCxnSpPr>
        <p:spPr>
          <a:xfrm>
            <a:off x="3427560" y="323856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1" name="Text Box 2082"/>
          <p:cNvSpPr/>
          <p:nvPr/>
        </p:nvSpPr>
        <p:spPr>
          <a:xfrm>
            <a:off x="6785640" y="94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84"/>
          <p:cNvSpPr/>
          <p:nvPr/>
        </p:nvSpPr>
        <p:spPr>
          <a:xfrm>
            <a:off x="293760" y="30258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AutoShape 2087"/>
          <p:cNvCxnSpPr>
            <a:stCxn id="507" idx="0"/>
            <a:endCxn id="504" idx="4"/>
          </p:cNvCxnSpPr>
          <p:nvPr/>
        </p:nvCxnSpPr>
        <p:spPr>
          <a:xfrm flipH="1" flipV="1">
            <a:off x="7319160" y="160272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3" name="Rectangle 2088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AutoShape 2089"/>
          <p:cNvCxnSpPr>
            <a:stCxn id="510" idx="2"/>
            <a:endCxn id="515" idx="0"/>
          </p:cNvCxnSpPr>
          <p:nvPr/>
        </p:nvCxnSpPr>
        <p:spPr>
          <a:xfrm flipH="1" rot="16200000">
            <a:off x="1703160" y="3615840"/>
            <a:ext cx="304200" cy="2160"/>
          </a:xfrm>
          <a:prstGeom prst="bentConnector3">
            <a:avLst>
              <a:gd name="adj1" fmla="val 5225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6" name="Oval 2090"/>
          <p:cNvSpPr/>
          <p:nvPr/>
        </p:nvSpPr>
        <p:spPr>
          <a:xfrm>
            <a:off x="177804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2091"/>
          <p:cNvSpPr/>
          <p:nvPr/>
        </p:nvSpPr>
        <p:spPr>
          <a:xfrm>
            <a:off x="176220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2109"/>
          <p:cNvGrpSpPr/>
          <p:nvPr/>
        </p:nvGrpSpPr>
        <p:grpSpPr>
          <a:xfrm>
            <a:off x="490680" y="903240"/>
            <a:ext cx="5291280" cy="2065320"/>
            <a:chOff x="490680" y="903240"/>
            <a:chExt cx="5291280" cy="2065320"/>
          </a:xfrm>
        </p:grpSpPr>
        <p:sp>
          <p:nvSpPr>
            <p:cNvPr id="518" name="Text Box 2110"/>
            <p:cNvSpPr/>
            <p:nvPr/>
          </p:nvSpPr>
          <p:spPr>
            <a:xfrm>
              <a:off x="490680" y="90324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2111"/>
            <p:cNvSpPr/>
            <p:nvPr/>
          </p:nvSpPr>
          <p:spPr>
            <a:xfrm>
              <a:off x="762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0" name="AutoShape 2112"/>
            <p:cNvCxnSpPr>
              <a:endCxn id="519" idx="0"/>
            </p:cNvCxnSpPr>
            <p:nvPr/>
          </p:nvCxnSpPr>
          <p:spPr>
            <a:xfrm rot="5400000">
              <a:off x="138600" y="203436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21" name="Group 2113"/>
            <p:cNvGrpSpPr/>
            <p:nvPr/>
          </p:nvGrpSpPr>
          <p:grpSpPr>
            <a:xfrm>
              <a:off x="1245960" y="1317240"/>
              <a:ext cx="4536000" cy="1509840"/>
              <a:chOff x="1245960" y="1317240"/>
              <a:chExt cx="4536000" cy="1509840"/>
            </a:xfrm>
          </p:grpSpPr>
          <p:sp>
            <p:nvSpPr>
              <p:cNvPr id="522" name="Rectangle 2114"/>
              <p:cNvSpPr/>
              <p:nvPr/>
            </p:nvSpPr>
            <p:spPr>
              <a:xfrm>
                <a:off x="1560600" y="145224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2115"/>
              <p:cNvSpPr/>
              <p:nvPr/>
            </p:nvSpPr>
            <p:spPr>
              <a:xfrm>
                <a:off x="3715920" y="196344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116"/>
              <p:cNvSpPr/>
              <p:nvPr/>
            </p:nvSpPr>
            <p:spPr>
              <a:xfrm>
                <a:off x="3722760" y="245880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117"/>
              <p:cNvSpPr/>
              <p:nvPr/>
            </p:nvSpPr>
            <p:spPr>
              <a:xfrm>
                <a:off x="3495600" y="20570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18"/>
              <p:cNvSpPr/>
              <p:nvPr/>
            </p:nvSpPr>
            <p:spPr>
              <a:xfrm>
                <a:off x="3486240" y="258120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119"/>
              <p:cNvSpPr/>
              <p:nvPr/>
            </p:nvSpPr>
            <p:spPr>
              <a:xfrm>
                <a:off x="1949040" y="177300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120"/>
              <p:cNvSpPr/>
              <p:nvPr/>
            </p:nvSpPr>
            <p:spPr>
              <a:xfrm>
                <a:off x="1376640" y="229392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Group 2121"/>
              <p:cNvGrpSpPr/>
              <p:nvPr/>
            </p:nvGrpSpPr>
            <p:grpSpPr>
              <a:xfrm>
                <a:off x="4257720" y="1544400"/>
                <a:ext cx="1524240" cy="376200"/>
                <a:chOff x="4257720" y="1544400"/>
                <a:chExt cx="1524240" cy="376200"/>
              </a:xfrm>
            </p:grpSpPr>
            <p:sp>
              <p:nvSpPr>
                <p:cNvPr id="530" name="Oval 2122"/>
                <p:cNvSpPr/>
                <p:nvPr/>
              </p:nvSpPr>
              <p:spPr>
                <a:xfrm>
                  <a:off x="4257720" y="169992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123"/>
                <p:cNvGrpSpPr/>
                <p:nvPr/>
              </p:nvGrpSpPr>
              <p:grpSpPr>
                <a:xfrm>
                  <a:off x="4456800" y="1544400"/>
                  <a:ext cx="1325160" cy="376200"/>
                  <a:chOff x="4456800" y="1544400"/>
                  <a:chExt cx="1325160" cy="376200"/>
                </a:xfrm>
              </p:grpSpPr>
              <p:sp>
                <p:nvSpPr>
                  <p:cNvPr id="532" name="Text Box 2124"/>
                  <p:cNvSpPr/>
                  <p:nvPr/>
                </p:nvSpPr>
                <p:spPr>
                  <a:xfrm>
                    <a:off x="4456800" y="154440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125"/>
                  <p:cNvSpPr/>
                  <p:nvPr/>
                </p:nvSpPr>
                <p:spPr>
                  <a:xfrm flipV="1">
                    <a:off x="5650920" y="155520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34" name="AutoShape 2126"/>
              <p:cNvCxnSpPr>
                <a:stCxn id="526" idx="2"/>
              </p:cNvCxnSpPr>
              <p:nvPr/>
            </p:nvCxnSpPr>
            <p:spPr>
              <a:xfrm rot="10800000">
                <a:off x="1245600" y="131688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2127"/>
              <p:cNvCxnSpPr>
                <a:stCxn id="525" idx="2"/>
                <a:endCxn id="518" idx="2"/>
              </p:cNvCxnSpPr>
              <p:nvPr/>
            </p:nvCxnSpPr>
            <p:spPr>
              <a:xfrm rot="10800000">
                <a:off x="1851840" y="134208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2128"/>
              <p:cNvCxnSpPr>
                <a:stCxn id="530" idx="2"/>
              </p:cNvCxnSpPr>
              <p:nvPr/>
            </p:nvCxnSpPr>
            <p:spPr>
              <a:xfrm rot="10800000">
                <a:off x="2515320" y="131688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37" name="Text Box 2129"/>
              <p:cNvSpPr/>
              <p:nvPr/>
            </p:nvSpPr>
            <p:spPr>
              <a:xfrm>
                <a:off x="2600280" y="140796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9" name="Group 1027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40" name="Text Box 1028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029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Text Box 1030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1031"/>
          <p:cNvCxnSpPr>
            <a:stCxn id="544" idx="2"/>
            <a:endCxn id="541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45" name="AutoShape 1032"/>
          <p:cNvCxnSpPr>
            <a:stCxn id="540" idx="3"/>
            <a:endCxn id="546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Rectangle 1033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35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036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1038"/>
          <p:cNvGrpSpPr/>
          <p:nvPr/>
        </p:nvGrpSpPr>
        <p:grpSpPr>
          <a:xfrm>
            <a:off x="2593800" y="4049640"/>
            <a:ext cx="3094200" cy="398880"/>
            <a:chOff x="2593800" y="4049640"/>
            <a:chExt cx="3094200" cy="398880"/>
          </a:xfrm>
        </p:grpSpPr>
        <p:sp>
          <p:nvSpPr>
            <p:cNvPr id="550" name="Text Box 1039"/>
            <p:cNvSpPr/>
            <p:nvPr/>
          </p:nvSpPr>
          <p:spPr>
            <a:xfrm>
              <a:off x="2815920" y="404964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040"/>
            <p:cNvSpPr/>
            <p:nvPr/>
          </p:nvSpPr>
          <p:spPr>
            <a:xfrm>
              <a:off x="2593800" y="4181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2" name="AutoShape 1041"/>
          <p:cNvCxnSpPr>
            <a:stCxn id="544" idx="2"/>
            <a:endCxn id="551" idx="2"/>
          </p:cNvCxnSpPr>
          <p:nvPr/>
        </p:nvCxnSpPr>
        <p:spPr>
          <a:xfrm flipH="1" rot="16200000">
            <a:off x="1403280" y="3113640"/>
            <a:ext cx="194040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3" name="Group 1042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44" name="Text Box 1043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044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5" name="AutoShape 1045"/>
          <p:cNvCxnSpPr>
            <a:stCxn id="542" idx="2"/>
            <a:endCxn id="554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6" name="Text Box 1047"/>
          <p:cNvSpPr/>
          <p:nvPr/>
        </p:nvSpPr>
        <p:spPr>
          <a:xfrm>
            <a:off x="2353680" y="574848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1048"/>
          <p:cNvSpPr/>
          <p:nvPr/>
        </p:nvSpPr>
        <p:spPr>
          <a:xfrm>
            <a:off x="4165560" y="5514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8" name="AutoShape 1049"/>
          <p:cNvCxnSpPr>
            <a:stCxn id="550" idx="2"/>
            <a:endCxn id="557" idx="0"/>
          </p:cNvCxnSpPr>
          <p:nvPr/>
        </p:nvCxnSpPr>
        <p:spPr>
          <a:xfrm flipH="1" rot="16200000">
            <a:off x="3756600" y="4984560"/>
            <a:ext cx="997560" cy="6840"/>
          </a:xfrm>
          <a:prstGeom prst="bentConnector3">
            <a:avLst>
              <a:gd name="adj1" fmla="val 506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59" name="Oval 1050"/>
          <p:cNvSpPr/>
          <p:nvPr/>
        </p:nvSpPr>
        <p:spPr>
          <a:xfrm>
            <a:off x="7959600" y="31129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51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52"/>
          <p:cNvSpPr/>
          <p:nvPr/>
        </p:nvSpPr>
        <p:spPr>
          <a:xfrm>
            <a:off x="5741280" y="387036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AutoShape 1053"/>
          <p:cNvCxnSpPr>
            <a:stCxn id="550" idx="3"/>
            <a:endCxn id="559" idx="4"/>
          </p:cNvCxnSpPr>
          <p:nvPr/>
        </p:nvCxnSpPr>
        <p:spPr>
          <a:xfrm flipV="1">
            <a:off x="5713560" y="3314520"/>
            <a:ext cx="2340360" cy="948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4" name="Group 2051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65" name="Text Box 2052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53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2054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AutoShape 2055"/>
          <p:cNvCxnSpPr>
            <a:stCxn id="569" idx="2"/>
            <a:endCxn id="566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0" name="AutoShape 2056"/>
          <p:cNvCxnSpPr>
            <a:stCxn id="565" idx="3"/>
            <a:endCxn id="571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2" name="Rectangle 2057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058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2059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060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2061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76" name="Text Box 2062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063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8" name="AutoShape 2064"/>
          <p:cNvCxnSpPr>
            <a:stCxn id="565" idx="2"/>
            <a:endCxn id="577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79" name="Group 2065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69" name="Text Box 2066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067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AutoShape 2068"/>
          <p:cNvCxnSpPr>
            <a:stCxn id="567" idx="2"/>
            <a:endCxn id="580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2" name="Text Box 2069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2070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4" name="AutoShape 2071"/>
          <p:cNvCxnSpPr>
            <a:stCxn id="585" idx="2"/>
            <a:endCxn id="583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6" name="Rectangle 2073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076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080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081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082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0" name="AutoShape 2083"/>
          <p:cNvCxnSpPr>
            <a:stCxn id="587" idx="2"/>
            <a:endCxn id="589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1" name="Rectangle 2084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00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Object 7" descr=""/>
          <p:cNvPicPr/>
          <p:nvPr/>
        </p:nvPicPr>
        <p:blipFill>
          <a:blip r:embed="rId1"/>
          <a:stretch/>
        </p:blipFill>
        <p:spPr>
          <a:xfrm>
            <a:off x="2936880" y="1012680"/>
            <a:ext cx="55404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594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AutoShape 6"/>
            <p:cNvCxnSpPr>
              <a:stCxn id="594" idx="3"/>
              <a:endCxn id="597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98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597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604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5" name="AutoShape 5"/>
            <p:cNvCxnSpPr>
              <a:stCxn id="604" idx="2"/>
              <a:endCxn id="606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7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606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612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15" name="AutoShape 15"/>
            <p:cNvCxnSpPr>
              <a:stCxn id="604" idx="3"/>
              <a:endCxn id="612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6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620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3" name="AutoShape 7"/>
            <p:cNvCxnSpPr>
              <a:stCxn id="621" idx="3"/>
              <a:endCxn id="624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624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7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630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33" name="AutoShape 17"/>
            <p:cNvCxnSpPr>
              <a:stCxn id="627" idx="3"/>
              <a:endCxn id="630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6" name="AutoShape 20"/>
            <p:cNvCxnSpPr>
              <a:stCxn id="635" idx="3"/>
              <a:endCxn id="637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38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637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40" name="AutoShape 24"/>
            <p:cNvCxnSpPr>
              <a:stCxn id="641" idx="2"/>
              <a:endCxn id="627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42" name="AutoShape 25"/>
            <p:cNvCxnSpPr>
              <a:stCxn id="641" idx="2"/>
              <a:endCxn id="621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43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Oval 1027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1029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1030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1031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32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033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034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35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036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037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038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039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041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42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669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1" name="AutoShape 6"/>
            <p:cNvCxnSpPr>
              <a:stCxn id="669" idx="2"/>
              <a:endCxn id="670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2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677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9" name="AutoShape 14"/>
            <p:cNvCxnSpPr>
              <a:stCxn id="677" idx="2"/>
              <a:endCxn id="678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0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684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5"/>
          <p:cNvCxnSpPr>
            <a:stCxn id="688" idx="6"/>
            <a:endCxn id="687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0" name="AutoShape 6"/>
          <p:cNvCxnSpPr>
            <a:stCxn id="687" idx="2"/>
            <a:endCxn id="691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2" name="Text Box 7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11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97" name="Text Box 12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3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99" name="AutoShape 14"/>
          <p:cNvCxnSpPr>
            <a:stCxn id="700" idx="3"/>
            <a:endCxn id="698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01" name="Text Box 15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AutoShape 17"/>
          <p:cNvCxnSpPr>
            <a:stCxn id="697" idx="0"/>
            <a:endCxn id="703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4" name="Rectangle 35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36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37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905040" y="1285920"/>
            <a:ext cx="22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Oval 43"/>
          <p:cNvSpPr/>
          <p:nvPr/>
        </p:nvSpPr>
        <p:spPr>
          <a:xfrm>
            <a:off x="90504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AutoShape 44"/>
          <p:cNvCxnSpPr>
            <a:stCxn id="705" idx="2"/>
            <a:endCxn id="709" idx="0"/>
          </p:cNvCxnSpPr>
          <p:nvPr/>
        </p:nvCxnSpPr>
        <p:spPr>
          <a:xfrm rot="5400000">
            <a:off x="-838080" y="3312360"/>
            <a:ext cx="3690000" cy="1800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11" name="Group 66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712" name="Rectangle 46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47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48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9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50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51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52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53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20" name="Oval 54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55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22" name="Text Box 56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7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24" name="AutoShape 58"/>
            <p:cNvCxnSpPr>
              <a:stCxn id="716" idx="2"/>
              <a:endCxn id="706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5" name="AutoShape 59"/>
            <p:cNvCxnSpPr>
              <a:stCxn id="715" idx="2"/>
              <a:endCxn id="708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AutoShape 60"/>
            <p:cNvCxnSpPr>
              <a:stCxn id="720" idx="2"/>
              <a:endCxn id="707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7" name="Text Box 61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62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9" name="AutoShape 63"/>
          <p:cNvCxnSpPr>
            <a:stCxn id="730" idx="2"/>
            <a:endCxn id="731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1" name="Oval 64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5"/>
          <p:cNvSpPr/>
          <p:nvPr/>
        </p:nvSpPr>
        <p:spPr>
          <a:xfrm>
            <a:off x="746280" y="1222200"/>
            <a:ext cx="555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1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3" name="AutoShape 18"/>
          <p:cNvCxnSpPr>
            <a:stCxn id="106" idx="2"/>
            <a:endCxn id="10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4" name="AutoShape 19"/>
          <p:cNvCxnSpPr>
            <a:stCxn id="106" idx="2"/>
            <a:endCxn id="11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1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69"/>
          <p:cNvCxnSpPr>
            <a:stCxn id="118" idx="0"/>
            <a:endCxn id="12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9" name="AutoShape 70"/>
          <p:cNvCxnSpPr>
            <a:stCxn id="117" idx="0"/>
            <a:endCxn id="12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72"/>
          <p:cNvCxnSpPr>
            <a:stCxn id="126" idx="0"/>
            <a:endCxn id="13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AutoShape 74"/>
          <p:cNvCxnSpPr>
            <a:stCxn id="123" idx="0"/>
            <a:endCxn id="13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78"/>
          <p:cNvCxnSpPr>
            <a:stCxn id="120" idx="0"/>
            <a:endCxn id="13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24" idx="0"/>
            <a:endCxn id="13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4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2480" y="11239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AutoShape 5"/>
          <p:cNvCxnSpPr>
            <a:stCxn id="733" idx="2"/>
            <a:endCxn id="735" idx="2"/>
          </p:cNvCxnSpPr>
          <p:nvPr/>
        </p:nvCxnSpPr>
        <p:spPr>
          <a:xfrm flipH="1" rot="16200000">
            <a:off x="561960" y="2037240"/>
            <a:ext cx="151812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6" name="Group 16"/>
          <p:cNvGrpSpPr/>
          <p:nvPr/>
        </p:nvGrpSpPr>
        <p:grpSpPr>
          <a:xfrm>
            <a:off x="1682640" y="4091040"/>
            <a:ext cx="2603520" cy="397440"/>
            <a:chOff x="1682640" y="4091040"/>
            <a:chExt cx="2603520" cy="397440"/>
          </a:xfrm>
        </p:grpSpPr>
        <p:sp>
          <p:nvSpPr>
            <p:cNvPr id="737" name="Rectangle 4"/>
            <p:cNvSpPr/>
            <p:nvPr/>
          </p:nvSpPr>
          <p:spPr>
            <a:xfrm>
              <a:off x="1896840" y="409104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1682640" y="4209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Rectangle 9"/>
          <p:cNvSpPr/>
          <p:nvPr/>
        </p:nvSpPr>
        <p:spPr>
          <a:xfrm>
            <a:off x="2278080" y="182088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0"/>
          <p:cNvSpPr/>
          <p:nvPr/>
        </p:nvSpPr>
        <p:spPr>
          <a:xfrm>
            <a:off x="2063880" y="1971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5"/>
          <p:cNvGrpSpPr/>
          <p:nvPr/>
        </p:nvGrpSpPr>
        <p:grpSpPr>
          <a:xfrm>
            <a:off x="1635120" y="5773680"/>
            <a:ext cx="2857320" cy="397440"/>
            <a:chOff x="1635120" y="5773680"/>
            <a:chExt cx="2857320" cy="397440"/>
          </a:xfrm>
        </p:grpSpPr>
        <p:sp>
          <p:nvSpPr>
            <p:cNvPr id="742" name="Rectangle 7"/>
            <p:cNvSpPr/>
            <p:nvPr/>
          </p:nvSpPr>
          <p:spPr>
            <a:xfrm>
              <a:off x="1849320" y="5773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1635120" y="5892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14"/>
          <p:cNvGrpSpPr/>
          <p:nvPr/>
        </p:nvGrpSpPr>
        <p:grpSpPr>
          <a:xfrm>
            <a:off x="1635120" y="2852640"/>
            <a:ext cx="2857320" cy="397440"/>
            <a:chOff x="1635120" y="2852640"/>
            <a:chExt cx="2857320" cy="397440"/>
          </a:xfrm>
        </p:grpSpPr>
        <p:sp>
          <p:nvSpPr>
            <p:cNvPr id="745" name="Rectangle 8"/>
            <p:cNvSpPr/>
            <p:nvPr/>
          </p:nvSpPr>
          <p:spPr>
            <a:xfrm>
              <a:off x="1849320" y="28526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2"/>
            <p:cNvSpPr/>
            <p:nvPr/>
          </p:nvSpPr>
          <p:spPr>
            <a:xfrm>
              <a:off x="1635120" y="2987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746" name="AutoShape 13"/>
          <p:cNvCxnSpPr>
            <a:stCxn id="733" idx="2"/>
            <a:endCxn id="743" idx="2"/>
          </p:cNvCxnSpPr>
          <p:nvPr/>
        </p:nvCxnSpPr>
        <p:spPr>
          <a:xfrm flipH="1" rot="16200000">
            <a:off x="-890280" y="3489480"/>
            <a:ext cx="44229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7" name="AutoShape 17"/>
          <p:cNvCxnSpPr>
            <a:stCxn id="733" idx="2"/>
            <a:endCxn id="738" idx="2"/>
          </p:cNvCxnSpPr>
          <p:nvPr/>
        </p:nvCxnSpPr>
        <p:spPr>
          <a:xfrm flipH="1" rot="16200000">
            <a:off x="-25560" y="262476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8" name="AutoShape 18"/>
          <p:cNvCxnSpPr>
            <a:stCxn id="749" idx="2"/>
            <a:endCxn id="740" idx="2"/>
          </p:cNvCxnSpPr>
          <p:nvPr/>
        </p:nvCxnSpPr>
        <p:spPr>
          <a:xfrm flipH="1" rot="16200000">
            <a:off x="1481040" y="1510920"/>
            <a:ext cx="49428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9" name="Rectangle 19"/>
          <p:cNvSpPr/>
          <p:nvPr/>
        </p:nvSpPr>
        <p:spPr>
          <a:xfrm>
            <a:off x="1285920" y="1365120"/>
            <a:ext cx="270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1622520" y="1258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1" name="AutoShape 21"/>
          <p:cNvCxnSpPr>
            <a:stCxn id="745" idx="3"/>
            <a:endCxn id="752" idx="2"/>
          </p:cNvCxnSpPr>
          <p:nvPr/>
        </p:nvCxnSpPr>
        <p:spPr>
          <a:xfrm flipV="1">
            <a:off x="4506840" y="30492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Rectangle 22"/>
          <p:cNvSpPr/>
          <p:nvPr/>
        </p:nvSpPr>
        <p:spPr>
          <a:xfrm>
            <a:off x="1848240" y="98280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4" name="AutoShape 23"/>
          <p:cNvCxnSpPr>
            <a:stCxn id="739" idx="0"/>
            <a:endCxn id="750" idx="6"/>
          </p:cNvCxnSpPr>
          <p:nvPr/>
        </p:nvCxnSpPr>
        <p:spPr>
          <a:xfrm flipV="1" rot="16200000">
            <a:off x="2484720" y="6904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5" name="Rectangle 26"/>
          <p:cNvSpPr/>
          <p:nvPr/>
        </p:nvSpPr>
        <p:spPr>
          <a:xfrm>
            <a:off x="5865840" y="405936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7"/>
          <p:cNvSpPr/>
          <p:nvPr/>
        </p:nvSpPr>
        <p:spPr>
          <a:xfrm>
            <a:off x="695340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7151760" y="28368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4483440" y="263376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4831560" y="31892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7048440" y="38448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32"/>
          <p:cNvCxnSpPr>
            <a:stCxn id="759" idx="0"/>
            <a:endCxn id="745" idx="2"/>
          </p:cNvCxnSpPr>
          <p:nvPr/>
        </p:nvCxnSpPr>
        <p:spPr>
          <a:xfrm flipV="1" rot="16200000">
            <a:off x="4887720" y="157608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1" name="Oval 33"/>
          <p:cNvSpPr/>
          <p:nvPr/>
        </p:nvSpPr>
        <p:spPr>
          <a:xfrm>
            <a:off x="5651640" y="42102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34"/>
          <p:cNvSpPr/>
          <p:nvPr/>
        </p:nvSpPr>
        <p:spPr>
          <a:xfrm>
            <a:off x="6270480" y="4543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Oval 35"/>
          <p:cNvSpPr/>
          <p:nvPr/>
        </p:nvSpPr>
        <p:spPr>
          <a:xfrm>
            <a:off x="8143920" y="4527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4" name="AutoShape 36"/>
          <p:cNvCxnSpPr>
            <a:stCxn id="763" idx="4"/>
            <a:endCxn id="742" idx="3"/>
          </p:cNvCxnSpPr>
          <p:nvPr/>
        </p:nvCxnSpPr>
        <p:spPr>
          <a:xfrm rot="5400000">
            <a:off x="5742720" y="3492360"/>
            <a:ext cx="125784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5" name="AutoShape 37"/>
          <p:cNvCxnSpPr>
            <a:stCxn id="737" idx="3"/>
            <a:endCxn id="761" idx="2"/>
          </p:cNvCxnSpPr>
          <p:nvPr/>
        </p:nvCxnSpPr>
        <p:spPr>
          <a:xfrm>
            <a:off x="4300200" y="430344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6" name="Rectangle 38"/>
          <p:cNvSpPr/>
          <p:nvPr/>
        </p:nvSpPr>
        <p:spPr>
          <a:xfrm>
            <a:off x="4450680" y="391968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7" name="AutoShape 39"/>
          <p:cNvCxnSpPr>
            <a:stCxn id="762" idx="4"/>
            <a:endCxn id="742" idx="0"/>
          </p:cNvCxnSpPr>
          <p:nvPr/>
        </p:nvCxnSpPr>
        <p:spPr>
          <a:xfrm rot="5400000">
            <a:off x="4260600" y="3655800"/>
            <a:ext cx="1014840" cy="3193200"/>
          </a:xfrm>
          <a:prstGeom prst="bentConnector3">
            <a:avLst>
              <a:gd name="adj1" fmla="val 498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8" name="Rectangle 40"/>
          <p:cNvSpPr/>
          <p:nvPr/>
        </p:nvSpPr>
        <p:spPr>
          <a:xfrm>
            <a:off x="3834000" y="48560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5008680" y="560232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0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72" name="AutoShape 22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23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24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29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76" name="AutoShape 26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905400 w 1573200"/>
                  <a:gd name="textAreaRight" fmla="*/ 1205280 w 1573200"/>
                  <a:gd name="textAreaTop" fmla="*/ 115920 h 939600"/>
                  <a:gd name="textAreaBottom" fmla="*/ 41256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2610" y="0"/>
                    </a:lnTo>
                    <a:lnTo>
                      <a:pt x="12610" y="2663"/>
                    </a:lnTo>
                    <a:lnTo>
                      <a:pt x="12427" y="2663"/>
                    </a:lnTo>
                    <a:cubicBezTo>
                      <a:pt x="5564" y="2663"/>
                      <a:pt x="0" y="6914"/>
                      <a:pt x="0" y="12158"/>
                    </a:cubicBezTo>
                    <a:lnTo>
                      <a:pt x="0" y="21600"/>
                    </a:lnTo>
                    <a:lnTo>
                      <a:pt x="6983" y="21600"/>
                    </a:lnTo>
                    <a:lnTo>
                      <a:pt x="6983" y="12158"/>
                    </a:lnTo>
                    <a:cubicBezTo>
                      <a:pt x="6983" y="10687"/>
                      <a:pt x="9420" y="9495"/>
                      <a:pt x="12427" y="9495"/>
                    </a:cubicBezTo>
                    <a:lnTo>
                      <a:pt x="12610" y="9495"/>
                    </a:lnTo>
                    <a:lnTo>
                      <a:pt x="12610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27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939960 w 1633680"/>
                  <a:gd name="textAreaRight" fmla="*/ 1418040 w 1633680"/>
                  <a:gd name="textAreaTop" fmla="*/ 144360 h 1112760"/>
                  <a:gd name="textAreaBottom" fmla="*/ 48240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6289" y="0"/>
                    </a:lnTo>
                    <a:lnTo>
                      <a:pt x="16289" y="2803"/>
                    </a:lnTo>
                    <a:lnTo>
                      <a:pt x="12427" y="2803"/>
                    </a:lnTo>
                    <a:cubicBezTo>
                      <a:pt x="5564" y="2803"/>
                      <a:pt x="0" y="6991"/>
                      <a:pt x="0" y="12158"/>
                    </a:cubicBezTo>
                    <a:lnTo>
                      <a:pt x="0" y="21600"/>
                    </a:lnTo>
                    <a:lnTo>
                      <a:pt x="6697" y="21600"/>
                    </a:lnTo>
                    <a:lnTo>
                      <a:pt x="6697" y="12158"/>
                    </a:lnTo>
                    <a:cubicBezTo>
                      <a:pt x="6697" y="10610"/>
                      <a:pt x="9262" y="9355"/>
                      <a:pt x="12427" y="9355"/>
                    </a:cubicBezTo>
                    <a:lnTo>
                      <a:pt x="16289" y="9355"/>
                    </a:lnTo>
                    <a:lnTo>
                      <a:pt x="16289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28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5" name="AutoShape 8"/>
          <p:cNvCxnSpPr>
            <a:stCxn id="781" idx="2"/>
            <a:endCxn id="784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Oval 9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8" name="AutoShape 11"/>
          <p:cNvCxnSpPr>
            <a:stCxn id="781" idx="1"/>
            <a:endCxn id="786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9" name="Oval 13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AutoShape 14"/>
          <p:cNvCxnSpPr>
            <a:stCxn id="781" idx="3"/>
            <a:endCxn id="789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Rectangle 15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8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5" name="AutoShape 19"/>
          <p:cNvCxnSpPr>
            <a:stCxn id="783" idx="2"/>
            <a:endCxn id="794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6" name="Oval 20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AutoShape 21"/>
          <p:cNvCxnSpPr>
            <a:stCxn id="782" idx="2"/>
            <a:endCxn id="796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0" name="AutoShape 4"/>
          <p:cNvCxnSpPr>
            <a:stCxn id="801" idx="2"/>
            <a:endCxn id="802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3" name="Group 28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804" name="Rectangle 8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Group 13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807" name="Rectangle 14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08" name="AutoShape 16"/>
          <p:cNvCxnSpPr>
            <a:stCxn id="801" idx="2"/>
            <a:endCxn id="809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0" name="AutoShape 17"/>
          <p:cNvCxnSpPr>
            <a:stCxn id="801" idx="2"/>
            <a:endCxn id="811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2" name="AutoShape 18"/>
          <p:cNvCxnSpPr>
            <a:stCxn id="801" idx="2"/>
            <a:endCxn id="805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1" name="Rectangle 21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oup 30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814" name="Rectangle 6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22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27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16" name="Rectangle 20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23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Group 26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19" name="Rectangle 19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24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29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22" name="Rectangle 11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25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23" name="AutoShape 31"/>
          <p:cNvCxnSpPr>
            <a:stCxn id="801" idx="2"/>
            <a:endCxn id="820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4" name="AutoShape 32"/>
          <p:cNvCxnSpPr>
            <a:stCxn id="801" idx="2"/>
            <a:endCxn id="817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5" name="Text Box 3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Rectangle 1027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AutoShape 1028"/>
          <p:cNvCxnSpPr>
            <a:stCxn id="829" idx="2"/>
            <a:endCxn id="830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1" name="Rectangle 1030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31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33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034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4" name="AutoShape 1035"/>
          <p:cNvCxnSpPr>
            <a:stCxn id="829" idx="2"/>
            <a:endCxn id="835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6" name="AutoShape 1036"/>
          <p:cNvCxnSpPr>
            <a:stCxn id="829" idx="2"/>
            <a:endCxn id="837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8" name="AutoShape 1037"/>
          <p:cNvCxnSpPr>
            <a:stCxn id="829" idx="2"/>
            <a:endCxn id="832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Rectangle 1038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40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041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46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1047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049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050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051"/>
          <p:cNvCxnSpPr>
            <a:stCxn id="829" idx="2"/>
            <a:endCxn id="841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Text Box 105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849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52" name="Group 3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53" name="Text Box 4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5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55" name="AutoShape 7"/>
          <p:cNvCxnSpPr>
            <a:stCxn id="856" idx="2"/>
            <a:endCxn id="854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8"/>
          <p:cNvCxnSpPr>
            <a:stCxn id="856" idx="2"/>
            <a:endCxn id="858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Rectangle 9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61" name="Text Box 11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13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14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64" name="Text Box 15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66" name="AutoShape 17"/>
          <p:cNvCxnSpPr>
            <a:stCxn id="856" idx="2"/>
            <a:endCxn id="865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67" name="Group 18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68" name="Text Box 19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70" name="AutoShape 21"/>
          <p:cNvCxnSpPr>
            <a:stCxn id="856" idx="2"/>
            <a:endCxn id="869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3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27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28"/>
          <p:cNvCxnSpPr>
            <a:stCxn id="861" idx="0"/>
            <a:endCxn id="874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6" name="Text Box 29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AutoShape 32"/>
          <p:cNvCxnSpPr>
            <a:stCxn id="871" idx="2"/>
            <a:endCxn id="877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7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81" name="Text Box 39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40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83" name="AutoShape 41"/>
          <p:cNvCxnSpPr>
            <a:stCxn id="856" idx="2"/>
            <a:endCxn id="882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Text Box 43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44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AutoShape 45"/>
          <p:cNvCxnSpPr>
            <a:stCxn id="864" idx="3"/>
            <a:endCxn id="885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7" name="Oval 46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8" name="AutoShape 47"/>
          <p:cNvCxnSpPr>
            <a:stCxn id="881" idx="3"/>
            <a:endCxn id="887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9" name="Oval 48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0" name="AutoShape 49"/>
          <p:cNvCxnSpPr>
            <a:stCxn id="853" idx="3"/>
            <a:endCxn id="889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AutoShape 50"/>
          <p:cNvCxnSpPr>
            <a:stCxn id="872" idx="0"/>
            <a:endCxn id="868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AutoShape 51"/>
          <p:cNvCxnSpPr>
            <a:endCxn id="893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4" name="Rectangle 52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53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93" name="Oval 54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55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56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5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902" name="Text Box 6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Oval 8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5" name="AutoShape 9"/>
          <p:cNvCxnSpPr>
            <a:stCxn id="902" idx="3"/>
            <a:endCxn id="904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6" name="AutoShape 10"/>
          <p:cNvCxnSpPr>
            <a:stCxn id="900" idx="2"/>
            <a:endCxn id="903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7" name="Rectangle 11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12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909" name="Text Box 13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1" name="AutoShape 15"/>
          <p:cNvCxnSpPr>
            <a:stCxn id="912" idx="2"/>
            <a:endCxn id="910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2" name="Rectangle 16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914" name="Text Box 18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17" name="Text Box 21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9" name="AutoShape 23"/>
          <p:cNvCxnSpPr>
            <a:stCxn id="912" idx="2"/>
            <a:endCxn id="915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0" name="AutoShape 24"/>
          <p:cNvCxnSpPr>
            <a:stCxn id="912" idx="2"/>
            <a:endCxn id="918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1" name="Rectangle 30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1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32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4" name="AutoShape 33"/>
          <p:cNvCxnSpPr>
            <a:stCxn id="914" idx="3"/>
            <a:endCxn id="925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6" name="Rectangle 34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36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9" name="AutoShape 38"/>
          <p:cNvCxnSpPr>
            <a:stCxn id="909" idx="0"/>
            <a:endCxn id="923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0" name="Text Box 39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0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2" name="AutoShape 41"/>
          <p:cNvCxnSpPr>
            <a:stCxn id="917" idx="0"/>
            <a:endCxn id="931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3" name="Rectangle 42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4" name="AutoShape 43"/>
          <p:cNvCxnSpPr>
            <a:stCxn id="900" idx="3"/>
            <a:endCxn id="935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Rectangle 44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45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35" name="Oval 46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2" name="Group 13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43" name="Text Box 14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5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45" name="AutoShape 16"/>
          <p:cNvCxnSpPr>
            <a:stCxn id="946" idx="2"/>
            <a:endCxn id="944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6" name="Rectangle 27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36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9" name="AutoShape 37"/>
          <p:cNvCxnSpPr>
            <a:stCxn id="943" idx="2"/>
            <a:endCxn id="948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0" name="AutoShape 43"/>
          <p:cNvCxnSpPr>
            <a:stCxn id="947" idx="3"/>
            <a:endCxn id="951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2" name="Text Box 44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45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6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47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48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7" name="AutoShape 50"/>
          <p:cNvCxnSpPr>
            <a:stCxn id="947" idx="2"/>
            <a:endCxn id="956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8" name="Rectangle 51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AutoShape 52"/>
          <p:cNvCxnSpPr>
            <a:stCxn id="946" idx="3"/>
            <a:endCxn id="960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Rectangle 55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56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60" name="Oval 57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58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59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70" name="Text Box 15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2" name="AutoShape 17"/>
          <p:cNvCxnSpPr>
            <a:stCxn id="967" idx="2"/>
            <a:endCxn id="971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73" name="Group 18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74" name="Text Box 19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6" name="AutoShape 21"/>
          <p:cNvCxnSpPr>
            <a:stCxn id="967" idx="2"/>
            <a:endCxn id="975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23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25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81" name="Text Box 26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7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3" name="AutoShape 28"/>
          <p:cNvCxnSpPr>
            <a:stCxn id="984" idx="3"/>
            <a:endCxn id="982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85" name="Text Box 29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31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7" name="AutoShape 32"/>
          <p:cNvCxnSpPr>
            <a:stCxn id="977" idx="2"/>
            <a:endCxn id="986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8" name="AutoShape 33"/>
          <p:cNvCxnSpPr>
            <a:stCxn id="981" idx="0"/>
            <a:endCxn id="978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0" name="AutoShape 35"/>
          <p:cNvCxnSpPr>
            <a:stCxn id="984" idx="2"/>
            <a:endCxn id="991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Oval 36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37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39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6" name="AutoShape 41"/>
          <p:cNvCxnSpPr>
            <a:stCxn id="994" idx="2"/>
            <a:endCxn id="967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Oval 42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9" name="AutoShape 44"/>
          <p:cNvCxnSpPr>
            <a:stCxn id="997" idx="4"/>
            <a:endCxn id="970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1027"/>
          <p:cNvSpPr/>
          <p:nvPr/>
        </p:nvSpPr>
        <p:spPr>
          <a:xfrm>
            <a:off x="409680" y="112716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28"/>
          <p:cNvSpPr/>
          <p:nvPr/>
        </p:nvSpPr>
        <p:spPr>
          <a:xfrm>
            <a:off x="931680" y="17812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1784520" y="2144880"/>
            <a:ext cx="2754360" cy="398880"/>
            <a:chOff x="1784520" y="2144880"/>
            <a:chExt cx="2754360" cy="398880"/>
          </a:xfrm>
        </p:grpSpPr>
        <p:sp>
          <p:nvSpPr>
            <p:cNvPr id="1004" name="Text Box 1030"/>
            <p:cNvSpPr/>
            <p:nvPr/>
          </p:nvSpPr>
          <p:spPr>
            <a:xfrm>
              <a:off x="2008080" y="214488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031"/>
            <p:cNvSpPr/>
            <p:nvPr/>
          </p:nvSpPr>
          <p:spPr>
            <a:xfrm>
              <a:off x="1784520" y="2276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06" name="AutoShape 1032"/>
          <p:cNvCxnSpPr>
            <a:stCxn id="1001" idx="2"/>
            <a:endCxn id="1005" idx="2"/>
          </p:cNvCxnSpPr>
          <p:nvPr/>
        </p:nvCxnSpPr>
        <p:spPr>
          <a:xfrm flipH="1" rot="16200000">
            <a:off x="1176120" y="1790280"/>
            <a:ext cx="8042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07" name="Group 1033"/>
          <p:cNvGrpSpPr/>
          <p:nvPr/>
        </p:nvGrpSpPr>
        <p:grpSpPr>
          <a:xfrm>
            <a:off x="1784520" y="3201840"/>
            <a:ext cx="3179880" cy="398880"/>
            <a:chOff x="1784520" y="3201840"/>
            <a:chExt cx="3179880" cy="398880"/>
          </a:xfrm>
        </p:grpSpPr>
        <p:sp>
          <p:nvSpPr>
            <p:cNvPr id="1008" name="Text Box 1034"/>
            <p:cNvSpPr/>
            <p:nvPr/>
          </p:nvSpPr>
          <p:spPr>
            <a:xfrm>
              <a:off x="2020680" y="320184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1035"/>
            <p:cNvSpPr/>
            <p:nvPr/>
          </p:nvSpPr>
          <p:spPr>
            <a:xfrm>
              <a:off x="1784520" y="3333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10" name="AutoShape 1036"/>
          <p:cNvCxnSpPr>
            <a:stCxn id="1001" idx="2"/>
            <a:endCxn id="1009" idx="2"/>
          </p:cNvCxnSpPr>
          <p:nvPr/>
        </p:nvCxnSpPr>
        <p:spPr>
          <a:xfrm flipH="1" rot="16200000">
            <a:off x="647280" y="2318760"/>
            <a:ext cx="1861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1" name="Oval 1038"/>
          <p:cNvSpPr/>
          <p:nvPr/>
        </p:nvSpPr>
        <p:spPr>
          <a:xfrm>
            <a:off x="4591080" y="1247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039"/>
          <p:cNvSpPr/>
          <p:nvPr/>
        </p:nvSpPr>
        <p:spPr>
          <a:xfrm>
            <a:off x="2569680" y="947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AutoShape 1040"/>
          <p:cNvCxnSpPr>
            <a:stCxn id="1011" idx="2"/>
            <a:endCxn id="1001" idx="3"/>
          </p:cNvCxnSpPr>
          <p:nvPr/>
        </p:nvCxnSpPr>
        <p:spPr>
          <a:xfrm rot="10800000">
            <a:off x="2415600" y="133920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4" name="Text Box 1042"/>
          <p:cNvSpPr/>
          <p:nvPr/>
        </p:nvSpPr>
        <p:spPr>
          <a:xfrm>
            <a:off x="4818240" y="119232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1043"/>
          <p:cNvSpPr/>
          <p:nvPr/>
        </p:nvSpPr>
        <p:spPr>
          <a:xfrm>
            <a:off x="4594320" y="1736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6" name="AutoShape 1044"/>
          <p:cNvCxnSpPr>
            <a:stCxn id="1015" idx="2"/>
            <a:endCxn id="1017" idx="2"/>
          </p:cNvCxnSpPr>
          <p:nvPr/>
        </p:nvCxnSpPr>
        <p:spPr>
          <a:xfrm rot="10800000">
            <a:off x="1896480" y="153900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8" name="Text Box 1045"/>
          <p:cNvSpPr/>
          <p:nvPr/>
        </p:nvSpPr>
        <p:spPr>
          <a:xfrm>
            <a:off x="2633400" y="1455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46"/>
          <p:cNvSpPr/>
          <p:nvPr/>
        </p:nvSpPr>
        <p:spPr>
          <a:xfrm>
            <a:off x="1778040" y="1317600"/>
            <a:ext cx="2379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1047"/>
          <p:cNvGrpSpPr/>
          <p:nvPr/>
        </p:nvGrpSpPr>
        <p:grpSpPr>
          <a:xfrm>
            <a:off x="1784520" y="2673360"/>
            <a:ext cx="2697120" cy="398880"/>
            <a:chOff x="1784520" y="2673360"/>
            <a:chExt cx="2697120" cy="398880"/>
          </a:xfrm>
        </p:grpSpPr>
        <p:sp>
          <p:nvSpPr>
            <p:cNvPr id="1020" name="Text Box 1048"/>
            <p:cNvSpPr/>
            <p:nvPr/>
          </p:nvSpPr>
          <p:spPr>
            <a:xfrm>
              <a:off x="2007360" y="267336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1049"/>
            <p:cNvSpPr/>
            <p:nvPr/>
          </p:nvSpPr>
          <p:spPr>
            <a:xfrm>
              <a:off x="1784520" y="2805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Group 1050"/>
          <p:cNvGrpSpPr/>
          <p:nvPr/>
        </p:nvGrpSpPr>
        <p:grpSpPr>
          <a:xfrm>
            <a:off x="1784520" y="3730680"/>
            <a:ext cx="2838960" cy="398880"/>
            <a:chOff x="1784520" y="3730680"/>
            <a:chExt cx="2838960" cy="398880"/>
          </a:xfrm>
        </p:grpSpPr>
        <p:sp>
          <p:nvSpPr>
            <p:cNvPr id="1023" name="Text Box 1051"/>
            <p:cNvSpPr/>
            <p:nvPr/>
          </p:nvSpPr>
          <p:spPr>
            <a:xfrm>
              <a:off x="2021040" y="373068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52"/>
            <p:cNvSpPr/>
            <p:nvPr/>
          </p:nvSpPr>
          <p:spPr>
            <a:xfrm>
              <a:off x="1784520" y="3862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53"/>
          <p:cNvGrpSpPr/>
          <p:nvPr/>
        </p:nvGrpSpPr>
        <p:grpSpPr>
          <a:xfrm>
            <a:off x="1784520" y="4260960"/>
            <a:ext cx="2755440" cy="398880"/>
            <a:chOff x="1784520" y="4260960"/>
            <a:chExt cx="2755440" cy="398880"/>
          </a:xfrm>
        </p:grpSpPr>
        <p:sp>
          <p:nvSpPr>
            <p:cNvPr id="1026" name="Text Box 1054"/>
            <p:cNvSpPr/>
            <p:nvPr/>
          </p:nvSpPr>
          <p:spPr>
            <a:xfrm>
              <a:off x="2022840" y="426096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55"/>
            <p:cNvSpPr/>
            <p:nvPr/>
          </p:nvSpPr>
          <p:spPr>
            <a:xfrm>
              <a:off x="1784520" y="4392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Group 1056"/>
          <p:cNvGrpSpPr/>
          <p:nvPr/>
        </p:nvGrpSpPr>
        <p:grpSpPr>
          <a:xfrm>
            <a:off x="1784520" y="4789440"/>
            <a:ext cx="2698200" cy="398880"/>
            <a:chOff x="1784520" y="4789440"/>
            <a:chExt cx="2698200" cy="398880"/>
          </a:xfrm>
        </p:grpSpPr>
        <p:sp>
          <p:nvSpPr>
            <p:cNvPr id="1029" name="Text Box 1057"/>
            <p:cNvSpPr/>
            <p:nvPr/>
          </p:nvSpPr>
          <p:spPr>
            <a:xfrm>
              <a:off x="2022120" y="478944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1058"/>
            <p:cNvSpPr/>
            <p:nvPr/>
          </p:nvSpPr>
          <p:spPr>
            <a:xfrm>
              <a:off x="1784520" y="49212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Group 1059"/>
          <p:cNvGrpSpPr/>
          <p:nvPr/>
        </p:nvGrpSpPr>
        <p:grpSpPr>
          <a:xfrm>
            <a:off x="1784520" y="5318280"/>
            <a:ext cx="3024360" cy="398880"/>
            <a:chOff x="1784520" y="5318280"/>
            <a:chExt cx="3024360" cy="398880"/>
          </a:xfrm>
        </p:grpSpPr>
        <p:sp>
          <p:nvSpPr>
            <p:cNvPr id="1032" name="Text Box 1060"/>
            <p:cNvSpPr/>
            <p:nvPr/>
          </p:nvSpPr>
          <p:spPr>
            <a:xfrm>
              <a:off x="2020680" y="531828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1061"/>
            <p:cNvSpPr/>
            <p:nvPr/>
          </p:nvSpPr>
          <p:spPr>
            <a:xfrm>
              <a:off x="1784520" y="5449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4" name="Group 1062"/>
          <p:cNvGrpSpPr/>
          <p:nvPr/>
        </p:nvGrpSpPr>
        <p:grpSpPr>
          <a:xfrm>
            <a:off x="1784520" y="5848200"/>
            <a:ext cx="4254480" cy="398880"/>
            <a:chOff x="1784520" y="5848200"/>
            <a:chExt cx="4254480" cy="398880"/>
          </a:xfrm>
        </p:grpSpPr>
        <p:sp>
          <p:nvSpPr>
            <p:cNvPr id="1035" name="Text Box 1063"/>
            <p:cNvSpPr/>
            <p:nvPr/>
          </p:nvSpPr>
          <p:spPr>
            <a:xfrm>
              <a:off x="2017800" y="584820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064"/>
            <p:cNvSpPr/>
            <p:nvPr/>
          </p:nvSpPr>
          <p:spPr>
            <a:xfrm>
              <a:off x="1784520" y="59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7" name="AutoShape 1065"/>
          <p:cNvCxnSpPr>
            <a:stCxn id="1001" idx="2"/>
            <a:endCxn id="1021" idx="2"/>
          </p:cNvCxnSpPr>
          <p:nvPr/>
        </p:nvCxnSpPr>
        <p:spPr>
          <a:xfrm flipH="1" rot="16200000">
            <a:off x="911880" y="2054520"/>
            <a:ext cx="13327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8" name="AutoShape 1066"/>
          <p:cNvCxnSpPr>
            <a:stCxn id="1001" idx="2"/>
            <a:endCxn id="1024" idx="2"/>
          </p:cNvCxnSpPr>
          <p:nvPr/>
        </p:nvCxnSpPr>
        <p:spPr>
          <a:xfrm flipH="1" rot="16200000">
            <a:off x="383040" y="2583000"/>
            <a:ext cx="23900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9" name="AutoShape 1067"/>
          <p:cNvCxnSpPr>
            <a:stCxn id="1001" idx="2"/>
            <a:endCxn id="1027" idx="2"/>
          </p:cNvCxnSpPr>
          <p:nvPr/>
        </p:nvCxnSpPr>
        <p:spPr>
          <a:xfrm flipH="1" rot="16200000">
            <a:off x="118080" y="2848320"/>
            <a:ext cx="2920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0" name="AutoShape 1068"/>
          <p:cNvCxnSpPr>
            <a:stCxn id="1001" idx="2"/>
            <a:endCxn id="1030" idx="2"/>
          </p:cNvCxnSpPr>
          <p:nvPr/>
        </p:nvCxnSpPr>
        <p:spPr>
          <a:xfrm flipH="1" rot="16200000">
            <a:off x="-146160" y="3112560"/>
            <a:ext cx="34488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1" name="AutoShape 1069"/>
          <p:cNvCxnSpPr>
            <a:stCxn id="1001" idx="2"/>
            <a:endCxn id="1033" idx="2"/>
          </p:cNvCxnSpPr>
          <p:nvPr/>
        </p:nvCxnSpPr>
        <p:spPr>
          <a:xfrm flipH="1" rot="16200000">
            <a:off x="-410760" y="3376800"/>
            <a:ext cx="39776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2" name="AutoShape 1070"/>
          <p:cNvCxnSpPr>
            <a:stCxn id="1001" idx="2"/>
            <a:endCxn id="1036" idx="2"/>
          </p:cNvCxnSpPr>
          <p:nvPr/>
        </p:nvCxnSpPr>
        <p:spPr>
          <a:xfrm flipH="1" rot="16200000">
            <a:off x="-675720" y="364212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1052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1055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1058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2" name="AutoShape 15"/>
            <p:cNvCxnSpPr>
              <a:stCxn id="1058" idx="2"/>
              <a:endCxn id="1061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3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6" name="AutoShape 19"/>
            <p:cNvCxnSpPr>
              <a:stCxn id="1064" idx="4"/>
              <a:endCxn id="1058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67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1068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9" name="AutoShape 22"/>
            <p:cNvCxnSpPr>
              <a:stCxn id="1070" idx="2"/>
              <a:endCxn id="1071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2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4" name="AutoShape 27"/>
            <p:cNvCxnSpPr>
              <a:stCxn id="1073" idx="2"/>
              <a:endCxn id="1075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6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0" name="AutoShape 33"/>
            <p:cNvCxnSpPr>
              <a:stCxn id="1078" idx="4"/>
              <a:endCxn id="1070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2" name="Object 1027"/>
          <p:cNvGraphicFramePr/>
          <p:nvPr/>
        </p:nvGraphicFramePr>
        <p:xfrm>
          <a:off x="317520" y="94932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4932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5" name="Object 3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55342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9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28"/>
          <p:cNvSpPr/>
          <p:nvPr/>
        </p:nvSpPr>
        <p:spPr>
          <a:xfrm>
            <a:off x="6753240" y="31104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89360" y="1017720"/>
            <a:ext cx="59688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6" name="Freeform 6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61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985720" y="10098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733920" y="111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6"/>
            <a:endCxn id="164" idx="1"/>
          </p:cNvCxnSpPr>
          <p:nvPr/>
        </p:nvCxnSpPr>
        <p:spPr>
          <a:xfrm>
            <a:off x="3935160" y="120924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4" idx="2"/>
            <a:endCxn id="168" idx="0"/>
          </p:cNvCxnSpPr>
          <p:nvPr/>
        </p:nvCxnSpPr>
        <p:spPr>
          <a:xfrm>
            <a:off x="7507440" y="1449000"/>
            <a:ext cx="8640" cy="132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" name="Text Box 9"/>
          <p:cNvSpPr/>
          <p:nvPr/>
        </p:nvSpPr>
        <p:spPr>
          <a:xfrm>
            <a:off x="6451200" y="2098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5847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381000" y="48862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74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9"/>
          <p:cNvCxnSpPr>
            <a:stCxn id="177" idx="3"/>
            <a:endCxn id="175" idx="2"/>
          </p:cNvCxnSpPr>
          <p:nvPr/>
        </p:nvCxnSpPr>
        <p:spPr>
          <a:xfrm>
            <a:off x="3919320" y="330156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785880" y="3089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29"/>
          <p:cNvCxnSpPr>
            <a:stCxn id="180" idx="0"/>
            <a:endCxn id="174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1" name="Group 31"/>
          <p:cNvGrpSpPr/>
          <p:nvPr/>
        </p:nvGrpSpPr>
        <p:grpSpPr>
          <a:xfrm>
            <a:off x="975240" y="4417920"/>
            <a:ext cx="858240" cy="398880"/>
            <a:chOff x="975240" y="4417920"/>
            <a:chExt cx="858240" cy="398880"/>
          </a:xfrm>
        </p:grpSpPr>
        <p:sp>
          <p:nvSpPr>
            <p:cNvPr id="182" name="Text Box 32"/>
            <p:cNvSpPr/>
            <p:nvPr/>
          </p:nvSpPr>
          <p:spPr>
            <a:xfrm>
              <a:off x="975240" y="44179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646280" y="451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599040" y="3890880"/>
            <a:ext cx="1234440" cy="398880"/>
            <a:chOff x="599040" y="3890880"/>
            <a:chExt cx="1234440" cy="398880"/>
          </a:xfrm>
        </p:grpSpPr>
        <p:sp>
          <p:nvSpPr>
            <p:cNvPr id="185" name="Text Box 35"/>
            <p:cNvSpPr/>
            <p:nvPr/>
          </p:nvSpPr>
          <p:spPr>
            <a:xfrm>
              <a:off x="599040" y="38908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1646280" y="400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497880" y="4938840"/>
            <a:ext cx="1335240" cy="398880"/>
            <a:chOff x="497880" y="4938840"/>
            <a:chExt cx="1335240" cy="398880"/>
          </a:xfrm>
        </p:grpSpPr>
        <p:sp>
          <p:nvSpPr>
            <p:cNvPr id="188" name="Text Box 38"/>
            <p:cNvSpPr/>
            <p:nvPr/>
          </p:nvSpPr>
          <p:spPr>
            <a:xfrm>
              <a:off x="497880" y="49388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1645920" y="5056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40"/>
          <p:cNvSpPr/>
          <p:nvPr/>
        </p:nvSpPr>
        <p:spPr>
          <a:xfrm>
            <a:off x="1990440" y="36100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AutoShape 41"/>
          <p:cNvCxnSpPr>
            <a:stCxn id="177" idx="2"/>
            <a:endCxn id="186" idx="6"/>
          </p:cNvCxnSpPr>
          <p:nvPr/>
        </p:nvCxnSpPr>
        <p:spPr>
          <a:xfrm rot="5400000">
            <a:off x="1818000" y="357228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2" name="AutoShape 42"/>
          <p:cNvCxnSpPr>
            <a:stCxn id="177" idx="2"/>
            <a:endCxn id="183" idx="6"/>
          </p:cNvCxnSpPr>
          <p:nvPr/>
        </p:nvCxnSpPr>
        <p:spPr>
          <a:xfrm rot="5400000">
            <a:off x="1561320" y="3828960"/>
            <a:ext cx="1085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3" name="AutoShape 43"/>
          <p:cNvCxnSpPr>
            <a:stCxn id="177" idx="2"/>
            <a:endCxn id="189" idx="6"/>
          </p:cNvCxnSpPr>
          <p:nvPr/>
        </p:nvCxnSpPr>
        <p:spPr>
          <a:xfrm rot="5400000">
            <a:off x="1293120" y="409716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Text Box 23"/>
          <p:cNvSpPr/>
          <p:nvPr/>
        </p:nvSpPr>
        <p:spPr>
          <a:xfrm>
            <a:off x="339120" y="5502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663560" y="57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AutoShape 47"/>
          <p:cNvCxnSpPr>
            <a:stCxn id="177" idx="2"/>
            <a:endCxn id="195" idx="6"/>
          </p:cNvCxnSpPr>
          <p:nvPr/>
        </p:nvCxnSpPr>
        <p:spPr>
          <a:xfrm rot="5400000">
            <a:off x="933480" y="447408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7" name="Rectangle 50"/>
          <p:cNvSpPr/>
          <p:nvPr/>
        </p:nvSpPr>
        <p:spPr>
          <a:xfrm>
            <a:off x="3762720" y="371628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3927960" y="8557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743904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1222200" y="1206360"/>
            <a:ext cx="2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71760" y="123840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889360" y="1174680"/>
            <a:ext cx="206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84"/>
          <p:cNvGrpSpPr/>
          <p:nvPr/>
        </p:nvGrpSpPr>
        <p:grpSpPr>
          <a:xfrm>
            <a:off x="966960" y="982800"/>
            <a:ext cx="5291280" cy="2065320"/>
            <a:chOff x="966960" y="982800"/>
            <a:chExt cx="5291280" cy="2065320"/>
          </a:xfrm>
        </p:grpSpPr>
        <p:sp>
          <p:nvSpPr>
            <p:cNvPr id="203" name="Text Box 3"/>
            <p:cNvSpPr/>
            <p:nvPr/>
          </p:nvSpPr>
          <p:spPr>
            <a:xfrm>
              <a:off x="966960" y="98280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6"/>
            <p:cNvSpPr/>
            <p:nvPr/>
          </p:nvSpPr>
          <p:spPr>
            <a:xfrm>
              <a:off x="1238400" y="2860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AutoShape 27"/>
            <p:cNvCxnSpPr>
              <a:stCxn id="199" idx="2"/>
              <a:endCxn id="204" idx="0"/>
            </p:cNvCxnSpPr>
            <p:nvPr/>
          </p:nvCxnSpPr>
          <p:spPr>
            <a:xfrm rot="5400000">
              <a:off x="614880" y="211392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206" name="Group 83"/>
            <p:cNvGrpSpPr/>
            <p:nvPr/>
          </p:nvGrpSpPr>
          <p:grpSpPr>
            <a:xfrm>
              <a:off x="1722240" y="1396800"/>
              <a:ext cx="4536000" cy="1509840"/>
              <a:chOff x="1722240" y="1396800"/>
              <a:chExt cx="4536000" cy="150984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2036880" y="153180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4192200" y="204300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57"/>
              <p:cNvSpPr/>
              <p:nvPr/>
            </p:nvSpPr>
            <p:spPr>
              <a:xfrm>
                <a:off x="4199040" y="253836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58"/>
              <p:cNvSpPr/>
              <p:nvPr/>
            </p:nvSpPr>
            <p:spPr>
              <a:xfrm>
                <a:off x="3971880" y="213660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9"/>
              <p:cNvSpPr/>
              <p:nvPr/>
            </p:nvSpPr>
            <p:spPr>
              <a:xfrm>
                <a:off x="3962520" y="266076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66"/>
              <p:cNvSpPr/>
              <p:nvPr/>
            </p:nvSpPr>
            <p:spPr>
              <a:xfrm>
                <a:off x="2425320" y="185256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67"/>
              <p:cNvSpPr/>
              <p:nvPr/>
            </p:nvSpPr>
            <p:spPr>
              <a:xfrm>
                <a:off x="1852920" y="237348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82"/>
              <p:cNvGrpSpPr/>
              <p:nvPr/>
            </p:nvGrpSpPr>
            <p:grpSpPr>
              <a:xfrm>
                <a:off x="4734000" y="1623960"/>
                <a:ext cx="1524240" cy="376200"/>
                <a:chOff x="4734000" y="1623960"/>
                <a:chExt cx="1524240" cy="376200"/>
              </a:xfrm>
            </p:grpSpPr>
            <p:sp>
              <p:nvSpPr>
                <p:cNvPr id="215" name="Oval 70"/>
                <p:cNvSpPr/>
                <p:nvPr/>
              </p:nvSpPr>
              <p:spPr>
                <a:xfrm>
                  <a:off x="4734000" y="177948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74"/>
                <p:cNvGrpSpPr/>
                <p:nvPr/>
              </p:nvGrpSpPr>
              <p:grpSpPr>
                <a:xfrm>
                  <a:off x="4933080" y="1623960"/>
                  <a:ext cx="1325160" cy="376200"/>
                  <a:chOff x="4933080" y="1623960"/>
                  <a:chExt cx="1325160" cy="376200"/>
                </a:xfrm>
              </p:grpSpPr>
              <p:sp>
                <p:nvSpPr>
                  <p:cNvPr id="217" name="Text Box 54"/>
                  <p:cNvSpPr/>
                  <p:nvPr/>
                </p:nvSpPr>
                <p:spPr>
                  <a:xfrm>
                    <a:off x="4933080" y="162396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72"/>
                  <p:cNvSpPr/>
                  <p:nvPr/>
                </p:nvSpPr>
                <p:spPr>
                  <a:xfrm flipV="1">
                    <a:off x="6127200" y="163476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219" name="AutoShape 76"/>
              <p:cNvCxnSpPr>
                <a:stCxn id="211" idx="2"/>
                <a:endCxn id="200" idx="2"/>
              </p:cNvCxnSpPr>
              <p:nvPr/>
            </p:nvCxnSpPr>
            <p:spPr>
              <a:xfrm rot="10800000">
                <a:off x="1721880" y="139644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AutoShape 79"/>
              <p:cNvCxnSpPr>
                <a:stCxn id="210" idx="2"/>
                <a:endCxn id="203" idx="2"/>
              </p:cNvCxnSpPr>
              <p:nvPr/>
            </p:nvCxnSpPr>
            <p:spPr>
              <a:xfrm rot="10800000">
                <a:off x="2328120" y="142164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AutoShape 80"/>
              <p:cNvCxnSpPr>
                <a:stCxn id="215" idx="2"/>
                <a:endCxn id="201" idx="2"/>
              </p:cNvCxnSpPr>
              <p:nvPr/>
            </p:nvCxnSpPr>
            <p:spPr>
              <a:xfrm rot="10800000">
                <a:off x="2991600" y="139644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22" name="Text Box 81"/>
              <p:cNvSpPr/>
              <p:nvPr/>
            </p:nvSpPr>
            <p:spPr>
              <a:xfrm>
                <a:off x="3076560" y="148752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315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6" idx="2"/>
            <a:endCxn id="224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8" name="AutoShape 9"/>
          <p:cNvCxnSpPr>
            <a:stCxn id="225" idx="2"/>
            <a:endCxn id="229" idx="0"/>
          </p:cNvCxnSpPr>
          <p:nvPr/>
        </p:nvCxnSpPr>
        <p:spPr>
          <a:xfrm>
            <a:off x="747720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237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241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1249200" y="5559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31"/>
          <p:cNvCxnSpPr>
            <a:stCxn id="237" idx="2"/>
            <a:endCxn id="246" idx="0"/>
          </p:cNvCxnSpPr>
          <p:nvPr/>
        </p:nvCxnSpPr>
        <p:spPr>
          <a:xfrm flipH="1">
            <a:off x="1342440" y="466884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8" name="AutoShape 32"/>
          <p:cNvCxnSpPr>
            <a:stCxn id="241" idx="2"/>
            <a:endCxn id="245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9" name="AutoShape 33"/>
          <p:cNvCxnSpPr>
            <a:stCxn id="234" idx="3"/>
            <a:endCxn id="243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0" name="AutoShape 34"/>
          <p:cNvCxnSpPr>
            <a:stCxn id="235" idx="3"/>
            <a:endCxn id="244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35"/>
          <p:cNvCxnSpPr>
            <a:stCxn id="224" idx="2"/>
            <a:endCxn id="238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2" name="AutoShape 36"/>
          <p:cNvCxnSpPr>
            <a:stCxn id="224" idx="2"/>
            <a:endCxn id="242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53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158760" y="390528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59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2" name="AutoShape 9"/>
          <p:cNvCxnSpPr>
            <a:stCxn id="259" idx="3"/>
            <a:endCxn id="26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3" name="AutoShape 10"/>
          <p:cNvCxnSpPr>
            <a:stCxn id="256" idx="0"/>
            <a:endCxn id="26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67" name="Oval 16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70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AutoShape 22"/>
          <p:cNvCxnSpPr>
            <a:stCxn id="272" idx="2"/>
            <a:endCxn id="25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AutoShape 23"/>
          <p:cNvCxnSpPr>
            <a:stCxn id="272" idx="2"/>
            <a:endCxn id="270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5" name="AutoShape 24"/>
          <p:cNvCxnSpPr>
            <a:stCxn id="272" idx="2"/>
            <a:endCxn id="267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6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AutoShape 27"/>
          <p:cNvCxnSpPr>
            <a:stCxn id="268" idx="3"/>
            <a:endCxn id="279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AutoShape 31"/>
          <p:cNvCxnSpPr>
            <a:stCxn id="268" idx="0"/>
            <a:endCxn id="282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Rectangle 32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3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0:45Z</dcterms:modified>
  <cp:revision>93</cp:revision>
  <dc:subject/>
  <dc:title>No Slide Title</dc:title>
</cp:coreProperties>
</file>